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082-89C7-4B90-B5B0-82748A88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721-AE25-42F4-9EAE-F82A6ED4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FB1-D3AB-4B84-AEA2-C58E36DB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399-FF3D-40F9-B089-6EE2CB2C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30CE-9F6E-40C3-8EA0-AE1B1DA7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B9D8-7948-47D6-894E-1FCE1053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15FB-731A-4257-860F-DBCE01F1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0BC3-5060-4CF0-B03A-1BFC9EAE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DB3C-41F2-4228-BD0C-0916B88E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88B8-EEC5-4959-A9A6-5492594A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6C1B-A10F-4F45-B505-22433F55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406-3A78-4C9F-B73E-5A510990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1E35-FCAD-4666-82E6-6670927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9B90-4140-4E81-B2A5-076198D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07D9-630D-4667-A98D-979B4C68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9FB1-A805-4AE7-AB09-2CE60DD4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0778-750D-4E60-BFFA-832D7292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F78-F773-4947-91CD-A638B103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82B-3F1F-48D9-AFFD-376A8677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53E-3D0D-4A2C-83A9-C28EBA1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3AB-A603-49B2-9695-F1D57E9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8F4-19B5-4A27-A478-B101FDF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5FB-C68D-4641-8963-373B38AD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B6C-6978-40B4-9DCC-A83FE8C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FDE-BDBB-41D5-97DF-F23CBAD8F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2EA3-B824-4C97-88A6-65CCA0B00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arking the Tex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ve reading strategy that asks students to identify information in the text that is relevant (relates to) the reading purp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3 distinct m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Numbering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Underl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Cir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umbering Paragraph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, # each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# small &amp; near the paragraph indentation &amp; circle the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Circ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Key Term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r phrases tha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pe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in a uniqu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fined by the aut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entral idea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to explain or represent a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levant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Underlin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information that is relevant (relates to the topic)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s: evidence, definitions, explanations, descriptions, data/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s you are going to (or could) use for quotes in your ow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an author’s cla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clai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ment(s) argued or stated by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can be found anywhere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may not be directly written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3:47:02Z</dcterms:created>
  <dc:creator>teacher</dc:creator>
  <dc:description/>
  <dc:language>en-US</dc:language>
  <cp:lastModifiedBy>teacher</cp:lastModifiedBy>
  <dcterms:modified xsi:type="dcterms:W3CDTF">2009-03-20T16:31:59Z</dcterms:modified>
  <cp:revision>25</cp:revision>
  <dc:subject/>
  <dc:title>Marking the Text</dc:title>
</cp:coreProperties>
</file>